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25F-5F9B-4443-AA68-48480C3F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0EA-6D7F-4268-873F-89C95945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DC95DC-D043-41B6-8F82-96E2B5EE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0A86DD-5A1F-46AC-A2A3-D56B9EBB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DACC7C-ADCE-4CF9-B74D-D3C09547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1F45AC-F8DF-40CF-984D-2A9123DF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4CDDBE-6F8F-4AD5-9478-89A7FE4B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F6DBC3-33A2-4B7C-B4C6-B67ACDBF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EA14CE-D358-4619-AB4A-CA8CA31D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B59389-12F7-4693-938D-20A62F2E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F0A81C-9D91-464A-A91B-C723FB22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41747-D55C-427C-A92F-BAB2B46B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74A-9417-4D3C-B6C7-F81A7F09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C21C8-AF95-4CE3-A71F-F5DF5062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C72DD-2365-41A0-B438-9E5A1C41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E16A0-CF07-4527-8AF9-B6B7E7DE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8BA76-9A5A-41AD-A870-22A72F15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B6FFE-358B-4A63-B3F6-B7CE031C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E249A-3203-44EF-9997-01B85EBD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7BEE5-F289-4B82-93B3-F94C598F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EF8C5-450B-4F01-978E-225103B0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F0A43-2B39-42EA-8063-3FF2134D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F05BB-7829-4EE0-88F5-5894B2A2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2C3-3935-4126-9187-0B134725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20595-4F75-400F-A628-1E63B73D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9420-F807-4059-93E1-449357AF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F9D9-0122-44EB-9BC2-B33988A1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5892-D78B-40B5-81C8-FFEB8F4A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4C73-EB19-40AF-B236-43A43337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7A4A-8FF0-4F60-91C6-EC8D9A88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DF3B-F418-4B82-A573-97AC6D8E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FDFA-9CE7-4B0C-83B3-670C0FF9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EE8-5F35-4CA9-B5B9-4215B7EE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8109-C7C1-4BEF-BE18-BD86579C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6840-5FEA-42B7-BB34-4A5D152C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1D7E-7CC2-4B01-9187-89B11F4C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5A48-E1A4-485E-BA6C-E34DA4B8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D372-A40C-4EB3-9667-B2367B05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56C03-458F-4F64-AC13-5B43E480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B5152-2D51-44F2-BADB-AFEDC61C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AE955-61FF-4F55-94C9-7C5CF646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AAF39-F60B-4B01-9619-2B3A7368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E9958-6C2D-4FF6-819A-BAA4C42F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180-4F96-410E-B94D-36815226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AA274-9CE8-45B7-A71B-7A3AC9FF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5E954-E86C-4515-A662-AB918C94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4DB950-118F-49DB-A488-5A3A8E41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6AA12-0E84-4813-8D35-A0DEEC38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FBD80-08E5-43E8-BFEF-7BA6EEE0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52C4F-280B-401A-BC6D-737B0917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7C89F-33E6-495D-8D6B-F18CE199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0EF59-1743-445F-9C2C-652588BA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5605E-A934-4B0A-A225-654E4A2F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5D2D6-5CDB-4EDF-9465-82D5A0C1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1BD-FB35-4DA0-B8AA-439BA02A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80C13-1BF9-42C2-8617-89F87D55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41C21-DF5F-4AFC-9880-A04F9029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7E2AC-CF8C-49BA-8BE4-EB7CAEB8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E9E2C-D754-4752-9813-18519691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3B2B1-66D0-49DD-B807-EC1E4440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F0B29-7B74-4205-A00A-39E0DDE1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3CBA9-08BD-4B2B-84D5-2ED92494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D42B2-E31F-45C4-918F-9A702EDA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41398-85CE-458E-AAD9-170C1083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D62F1-3FAB-476E-BBBF-5D5F31A0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723-8BDC-4E47-9093-EDD68343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9B0A6-BDD7-4DD3-8462-909D0B9D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8CC17-31C8-444D-9B96-4FE1499E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2CB29-1661-4133-A702-5365A61B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0FA0E-05B5-4BE7-882D-A33CC12C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E66C9-A8D9-4976-A74F-204EFFA1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97602-A0B7-4FDE-AAAE-3958ACBF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C2C65-6AAE-4400-820C-3C553005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CF9AE-9A09-46E4-8811-76ABDCB6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9DEEA-0DD2-42CB-B6C4-DD8E804C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8CADD-C906-4528-857A-0334EC05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D07-6124-4B32-8F73-A876AEB7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DD960-B9E6-436D-A385-5C58E0CF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FB22B-4527-4CD3-A586-AE1A52E8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F60EE-E665-4E58-803D-6C38343A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7F1AE-C6CC-45E7-AFFF-515B1988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1BB8A-D55E-4BA4-85FD-F5280B5E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29D9B-F6E4-4198-89E5-66EAB66F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72F84-11D0-49FE-92D1-20FF6929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D35EB-986C-43D3-BB25-7DA7FEEB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21956-A149-4AC4-896E-EA4181D1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B9DD8-476C-4033-848C-7827B48A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5AF-E2D7-4617-A52C-A9E6EEB4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49F69-CE2E-43E2-A68C-4F8A606E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AB9FE-14FD-40B5-BF45-67AC49B4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5D491-30B6-4B98-9FE9-754425AE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47E55-6FEE-40F4-B47D-DA21A3F2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DE801-2EB3-47DF-A31A-580C318F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5E80C-9CB8-44E5-A763-F921BF6A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D6CB8-A237-43AF-BF5B-8326466A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23D4D-7E1B-4147-B139-52E63E0A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02A0B-8664-48D8-A845-0FF2ACB2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06F24-F582-4B1C-A7AF-350F219F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62D-D326-411A-BE62-F3A42EC9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BDF53-D984-45AF-830E-6BBDF127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69EDC-299D-4C5A-AE88-2851D910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99215-942B-48B6-8E0E-2A5CBCA0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CAA40-304D-4542-9302-95B63691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B12EA-D366-404F-B72B-B57C5D11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04ABA-2753-4BEC-BBFB-20F0D149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0A2F6-76E5-4708-A320-C262AC5E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41C78-3604-467E-BC60-E4B348C5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847DC-2311-4E60-8F92-3AFB0E7E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5E427-B67A-415C-9670-A0A5DE81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3A5-3842-43A7-8A8F-37ED8751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97D76-FD60-4DD3-BC5B-182BD1B2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E3B47-57A0-4C5F-989C-44E793B9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56A95-63F3-417C-B0A6-70678BD3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E8186-1CF1-4647-A6D2-413F64F1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79813-B895-47E0-A925-15B4D224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79C9A-9573-48C6-AAC6-FB5034BC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C6F1D-C93E-4ACB-B1C6-2354EF1C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D8A4ED-6EDE-441C-A7F7-4842478F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8F74C6-34F8-4DA4-A1DA-D0B42376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61014C-25F0-4EB4-8327-AE08200F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F137-BDEC-439D-81CB-DEDDD3B1F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3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7B71-218B-45BA-B241-B7C6B1DC9B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6E0D-DD97-4CF6-A72D-7CD1C4AE7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1D50-17DF-432B-84FC-C564FA99DA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451A-800F-426B-815F-D42AAE5998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876D-2A7C-4766-A6C0-0C542819A8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9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0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1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9B24-E1FA-429C-95F5-63F2AE6786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266B-782E-4367-BCA8-AEB8414B98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3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5D86-5FD5-43FB-A194-A45722A282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7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3C85-6A58-4D02-A679-5641CDC2910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differences in people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332000" y="595008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e0ef"/>
                </a:solidFill>
                <a:latin typeface="Tahoma"/>
              </a:rPr>
              <a:t>Done by Jessi Carro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9034560" y="765000"/>
          <a:ext cx="109440" cy="1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4560" y="765000"/>
                    <a:ext cx="109440" cy="1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7524720" y="4292640"/>
            <a:ext cx="1163520" cy="18270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 rot="1461600">
            <a:off x="1631520" y="3265560"/>
            <a:ext cx="58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ee4c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12ee4c"/>
                </a:solidFill>
                <a:latin typeface="Arial"/>
              </a:rPr>
              <a:t>Children                     to                  ad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127476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ist off different things 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rink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V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s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bb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6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grown ups        children                                                                   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0" y="1268280"/>
            <a:ext cx="40388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.AGE=18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.DRINKS=all types off fizz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.FOOD=JUNK FO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.MUSIC=ROCK POP KOOL STU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.TV=CIDS STU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.HOBBIES=BEYING LAZ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189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042920" y="1268280"/>
            <a:ext cx="34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26920" y="1268280"/>
            <a:ext cx="374508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.AGE=19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.DRINKS=alcoh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.FOOD=HELTHEY VEGT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.MUSIC=OLD STUFF SOME AND N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.TV=BORING STU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.HOBBIES=GOING OUT A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reasons wh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739b9"/>
                </a:solidFill>
                <a:latin typeface="Garamond"/>
              </a:rPr>
              <a:t>The reason people are different to each other is because we grow up and change are minds in are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739b9"/>
                </a:solidFill>
                <a:uFillTx/>
                <a:latin typeface="Garamond"/>
              </a:rPr>
              <a:t>Like kids do different stuff to adults like go see there friends all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739b9"/>
                </a:solidFill>
                <a:uFillTx/>
                <a:latin typeface="Garamond"/>
              </a:rPr>
              <a:t>And grown ups like to watch boring stuff and do see much off there friends because they do work and we don'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en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Thank you for watching my slid show on the difference in people because it is nice to know how people are and what they do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25a"/>
                </a:solidFill>
                <a:latin typeface="Tahoma"/>
              </a:rPr>
              <a:t>Done by jessi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20:23:54Z</dcterms:created>
  <dc:creator>jessi</dc:creator>
  <dc:description/>
  <dc:language>en-US</dc:language>
  <cp:lastModifiedBy>Guest</cp:lastModifiedBy>
  <dcterms:modified xsi:type="dcterms:W3CDTF">2005-07-03T20:33:58Z</dcterms:modified>
  <cp:revision>4</cp:revision>
  <dc:subject/>
  <dc:title>The differences in people </dc:title>
</cp:coreProperties>
</file>